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F8F-7A8E-4C2F-BBDA-258FD853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001-F5CF-4D48-B69E-2F1C446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583-2BE7-4590-821E-5AFBCC98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CF0-7992-477F-ACA7-63BD1A11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474-9E46-4743-93BB-87609E7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ED5-5F1D-4C8E-83C7-12180CE1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3C1-D350-40E1-BC0F-0F0AE251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9A1-BD82-481F-B866-1C57F91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A4F-A274-475C-BA4D-60305E11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D1A-2AF4-4519-B995-8D58470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67B-2A91-4654-BE50-F261ED3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061-B4CB-4B43-8778-F52A291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1865-FAA2-4C9A-9B27-A80E13CAE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3733200" cy="2632320"/>
            <a:chOff x="304920" y="304920"/>
            <a:chExt cx="3733200" cy="2632320"/>
          </a:xfrm>
        </p:grpSpPr>
        <p:grpSp>
          <p:nvGrpSpPr>
            <p:cNvPr id="42" name=""/>
            <p:cNvGrpSpPr/>
            <p:nvPr/>
          </p:nvGrpSpPr>
          <p:grpSpPr>
            <a:xfrm>
              <a:off x="921600" y="641160"/>
              <a:ext cx="2142720" cy="1865880"/>
              <a:chOff x="921600" y="641160"/>
              <a:chExt cx="2142720" cy="1865880"/>
            </a:xfrm>
          </p:grpSpPr>
          <p:sp>
            <p:nvSpPr>
              <p:cNvPr id="43" name=""/>
              <p:cNvSpPr/>
              <p:nvPr/>
            </p:nvSpPr>
            <p:spPr>
              <a:xfrm>
                <a:off x="1668240" y="702360"/>
                <a:ext cx="0" cy="428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317680" y="732600"/>
                <a:ext cx="0" cy="428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921600" y="1130400"/>
                <a:ext cx="746640" cy="137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17680" y="1161000"/>
                <a:ext cx="746640" cy="1345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21600" y="2507040"/>
                <a:ext cx="2142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68240" y="641160"/>
                <a:ext cx="649080" cy="1530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739600" y="304920"/>
              <a:ext cx="1298520" cy="909000"/>
              <a:chOff x="2739600" y="304920"/>
              <a:chExt cx="1298520" cy="909000"/>
            </a:xfrm>
          </p:grpSpPr>
          <p:sp>
            <p:nvSpPr>
              <p:cNvPr id="50" name=""/>
              <p:cNvSpPr/>
              <p:nvPr/>
            </p:nvSpPr>
            <p:spPr>
              <a:xfrm>
                <a:off x="2739600" y="304920"/>
                <a:ext cx="1298520" cy="82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772000" y="365760"/>
                <a:ext cx="1265760" cy="848160"/>
                <a:chOff x="2772000" y="365760"/>
                <a:chExt cx="1265760" cy="8481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52640" y="890280"/>
                  <a:ext cx="134640" cy="1458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" name=""/>
                <p:cNvGrpSpPr/>
                <p:nvPr/>
              </p:nvGrpSpPr>
              <p:grpSpPr>
                <a:xfrm>
                  <a:off x="2772000" y="394920"/>
                  <a:ext cx="296280" cy="232920"/>
                  <a:chOff x="2772000" y="394920"/>
                  <a:chExt cx="296280" cy="23292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2941200" y="394920"/>
                    <a:ext cx="127080" cy="13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772000" y="394920"/>
                    <a:ext cx="127080" cy="13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856600" y="488160"/>
                    <a:ext cx="127080" cy="1396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3041640" y="774360"/>
                  <a:ext cx="7808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air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067560" y="365760"/>
                  <a:ext cx="97020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wa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1116360" y="1935000"/>
              <a:ext cx="1794240" cy="560160"/>
              <a:chOff x="1116360" y="1935000"/>
              <a:chExt cx="1794240" cy="5601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116360" y="2170800"/>
                <a:ext cx="356760" cy="244440"/>
                <a:chOff x="1116360" y="2170800"/>
                <a:chExt cx="356760" cy="244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320120" y="21708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116360" y="21708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218240" y="2268720"/>
                  <a:ext cx="153000" cy="146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1504440" y="1935000"/>
                <a:ext cx="343800" cy="369360"/>
                <a:chOff x="1504440" y="1935000"/>
                <a:chExt cx="343800" cy="369360"/>
              </a:xfrm>
            </p:grpSpPr>
            <p:sp>
              <p:nvSpPr>
                <p:cNvPr id="65" name=""/>
                <p:cNvSpPr/>
                <p:nvPr/>
              </p:nvSpPr>
              <p:spPr>
                <a:xfrm rot="14421600">
                  <a:off x="1535400" y="1958040"/>
                  <a:ext cx="14436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4421600">
                  <a:off x="1630440" y="2125080"/>
                  <a:ext cx="14436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4421600">
                  <a:off x="1672920" y="1990080"/>
                  <a:ext cx="144360" cy="155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1927800" y="2142360"/>
                <a:ext cx="359280" cy="352800"/>
                <a:chOff x="1927800" y="2142360"/>
                <a:chExt cx="359280" cy="352800"/>
              </a:xfrm>
            </p:grpSpPr>
            <p:sp>
              <p:nvSpPr>
                <p:cNvPr id="69" name=""/>
                <p:cNvSpPr/>
                <p:nvPr/>
              </p:nvSpPr>
              <p:spPr>
                <a:xfrm rot="2611200">
                  <a:off x="2104560" y="23148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2611200">
                  <a:off x="1956960" y="217476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2611200">
                  <a:off x="1963440" y="2315880"/>
                  <a:ext cx="153000" cy="146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187720" y="1987200"/>
                <a:ext cx="356760" cy="244440"/>
                <a:chOff x="2187720" y="1987200"/>
                <a:chExt cx="356760" cy="244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391480" y="19872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187720" y="19872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289600" y="2085120"/>
                  <a:ext cx="153000" cy="146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595240" y="2110680"/>
                <a:ext cx="315360" cy="365760"/>
                <a:chOff x="2595240" y="2110680"/>
                <a:chExt cx="315360" cy="365760"/>
              </a:xfrm>
            </p:grpSpPr>
            <p:sp>
              <p:nvSpPr>
                <p:cNvPr id="77" name=""/>
                <p:cNvSpPr/>
                <p:nvPr/>
              </p:nvSpPr>
              <p:spPr>
                <a:xfrm rot="4435800">
                  <a:off x="2743560" y="2307600"/>
                  <a:ext cx="14400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4435800">
                  <a:off x="2690640" y="2123280"/>
                  <a:ext cx="14400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4435800">
                  <a:off x="2617560" y="2243880"/>
                  <a:ext cx="144000" cy="155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726840" y="457560"/>
              <a:ext cx="2726640" cy="1254240"/>
              <a:chOff x="726840" y="457560"/>
              <a:chExt cx="2726640" cy="1254240"/>
            </a:xfrm>
          </p:grpSpPr>
          <p:sp>
            <p:nvSpPr>
              <p:cNvPr id="81" name=""/>
              <p:cNvSpPr/>
              <p:nvPr/>
            </p:nvSpPr>
            <p:spPr>
              <a:xfrm>
                <a:off x="1603440" y="1558800"/>
                <a:ext cx="16200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52520" y="1467000"/>
                <a:ext cx="16236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95400" y="885960"/>
                <a:ext cx="1620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20120" y="457560"/>
                <a:ext cx="16200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81160" y="457560"/>
                <a:ext cx="16236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6840" y="1252800"/>
                <a:ext cx="1620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91480" y="1558800"/>
                <a:ext cx="16200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04920" y="2630160"/>
              <a:ext cx="35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t 10 mL of water in a glass bott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00600" y="88200"/>
            <a:ext cx="4038480" cy="3114360"/>
            <a:chOff x="4800600" y="88200"/>
            <a:chExt cx="4038480" cy="3114360"/>
          </a:xfrm>
        </p:grpSpPr>
        <p:grpSp>
          <p:nvGrpSpPr>
            <p:cNvPr id="90" name=""/>
            <p:cNvGrpSpPr/>
            <p:nvPr/>
          </p:nvGrpSpPr>
          <p:grpSpPr>
            <a:xfrm>
              <a:off x="5663160" y="472680"/>
              <a:ext cx="2278440" cy="2094480"/>
              <a:chOff x="5663160" y="472680"/>
              <a:chExt cx="2278440" cy="2094480"/>
            </a:xfrm>
          </p:grpSpPr>
          <p:sp>
            <p:nvSpPr>
              <p:cNvPr id="91" name=""/>
              <p:cNvSpPr/>
              <p:nvPr/>
            </p:nvSpPr>
            <p:spPr>
              <a:xfrm>
                <a:off x="6457320" y="541440"/>
                <a:ext cx="0" cy="480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47800" y="575640"/>
                <a:ext cx="0" cy="480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663160" y="1022040"/>
                <a:ext cx="793800" cy="1545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7800" y="1056240"/>
                <a:ext cx="793800" cy="1510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63520" y="2567160"/>
                <a:ext cx="2278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57320" y="472680"/>
                <a:ext cx="690120" cy="171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283720" y="1330920"/>
              <a:ext cx="17244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347520" y="1445040"/>
              <a:ext cx="373320" cy="410040"/>
              <a:chOff x="6347520" y="1445040"/>
              <a:chExt cx="373320" cy="410040"/>
            </a:xfrm>
          </p:grpSpPr>
          <p:sp>
            <p:nvSpPr>
              <p:cNvPr id="99" name=""/>
              <p:cNvSpPr/>
              <p:nvPr/>
            </p:nvSpPr>
            <p:spPr>
              <a:xfrm rot="14421600">
                <a:off x="6378480" y="1473480"/>
                <a:ext cx="161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4421600">
                <a:off x="6485040" y="1661040"/>
                <a:ext cx="161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4421600">
                <a:off x="6527880" y="1512720"/>
                <a:ext cx="161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955920" y="2174400"/>
              <a:ext cx="402840" cy="319320"/>
              <a:chOff x="6955920" y="2174400"/>
              <a:chExt cx="402840" cy="319320"/>
            </a:xfrm>
          </p:grpSpPr>
          <p:sp>
            <p:nvSpPr>
              <p:cNvPr id="103" name=""/>
              <p:cNvSpPr/>
              <p:nvPr/>
            </p:nvSpPr>
            <p:spPr>
              <a:xfrm rot="630600">
                <a:off x="7182360" y="22273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30600">
                <a:off x="6969240" y="21877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30600">
                <a:off x="7056000" y="231552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780960" y="745200"/>
              <a:ext cx="392400" cy="385200"/>
              <a:chOff x="6780960" y="745200"/>
              <a:chExt cx="392400" cy="385200"/>
            </a:xfrm>
          </p:grpSpPr>
          <p:sp>
            <p:nvSpPr>
              <p:cNvPr id="107" name=""/>
              <p:cNvSpPr/>
              <p:nvPr/>
            </p:nvSpPr>
            <p:spPr>
              <a:xfrm rot="8297400">
                <a:off x="6814800" y="93240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297400">
                <a:off x="6976440" y="78840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297400">
                <a:off x="6822360" y="77832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41640" y="88200"/>
              <a:ext cx="388440" cy="385560"/>
              <a:chOff x="5741640" y="88200"/>
              <a:chExt cx="388440" cy="385560"/>
            </a:xfrm>
          </p:grpSpPr>
          <p:sp>
            <p:nvSpPr>
              <p:cNvPr id="111" name=""/>
              <p:cNvSpPr/>
              <p:nvPr/>
            </p:nvSpPr>
            <p:spPr>
              <a:xfrm rot="18992400">
                <a:off x="5933160" y="1213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8992400">
                <a:off x="5775840" y="27036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8992400">
                <a:off x="5930280" y="27540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773120" y="159480"/>
              <a:ext cx="402480" cy="382320"/>
              <a:chOff x="7773120" y="159480"/>
              <a:chExt cx="402480" cy="382320"/>
            </a:xfrm>
          </p:grpSpPr>
          <p:sp>
            <p:nvSpPr>
              <p:cNvPr id="115" name=""/>
              <p:cNvSpPr/>
              <p:nvPr/>
            </p:nvSpPr>
            <p:spPr>
              <a:xfrm rot="8589600">
                <a:off x="7806240" y="34488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8589600">
                <a:off x="7979760" y="2149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8589600">
                <a:off x="7827120" y="19188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216920" y="160596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360" y="403920"/>
              <a:ext cx="17244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33440" y="23220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14040" y="98784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9640" y="229248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28400" y="191484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2682360"/>
              <a:ext cx="403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t makes the water molecules push air out of the bottle 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xpans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59120" y="7124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58672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ckly put a balloon on top before all the air retur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3482280"/>
            <a:ext cx="3368520" cy="2497680"/>
            <a:chOff x="380880" y="3482280"/>
            <a:chExt cx="3368520" cy="2497680"/>
          </a:xfrm>
        </p:grpSpPr>
        <p:grpSp>
          <p:nvGrpSpPr>
            <p:cNvPr id="128" name=""/>
            <p:cNvGrpSpPr/>
            <p:nvPr/>
          </p:nvGrpSpPr>
          <p:grpSpPr>
            <a:xfrm>
              <a:off x="996480" y="3874680"/>
              <a:ext cx="2389320" cy="2105280"/>
              <a:chOff x="996480" y="3874680"/>
              <a:chExt cx="2389320" cy="2105280"/>
            </a:xfrm>
          </p:grpSpPr>
          <p:sp>
            <p:nvSpPr>
              <p:cNvPr id="129" name=""/>
              <p:cNvSpPr/>
              <p:nvPr/>
            </p:nvSpPr>
            <p:spPr>
              <a:xfrm>
                <a:off x="1829520" y="3943800"/>
                <a:ext cx="0" cy="483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53120" y="3978000"/>
                <a:ext cx="0" cy="483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996480" y="4426920"/>
                <a:ext cx="832680" cy="155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53120" y="4461480"/>
                <a:ext cx="832320" cy="1518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96840" y="5979960"/>
                <a:ext cx="2388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29520" y="3874680"/>
                <a:ext cx="723600" cy="1724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8320" y="4736880"/>
              <a:ext cx="181080" cy="17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19760" y="5541480"/>
              <a:ext cx="385560" cy="416520"/>
              <a:chOff x="1319760" y="5541480"/>
              <a:chExt cx="385560" cy="416520"/>
            </a:xfrm>
          </p:grpSpPr>
          <p:sp>
            <p:nvSpPr>
              <p:cNvPr id="137" name=""/>
              <p:cNvSpPr/>
              <p:nvPr/>
            </p:nvSpPr>
            <p:spPr>
              <a:xfrm rot="14421600">
                <a:off x="1353600" y="5568480"/>
                <a:ext cx="163080" cy="17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4421600">
                <a:off x="1461240" y="5757480"/>
                <a:ext cx="163080" cy="17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4421600">
                <a:off x="1508040" y="5605920"/>
                <a:ext cx="163080" cy="1731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552400" y="5566680"/>
              <a:ext cx="421560" cy="323280"/>
              <a:chOff x="2552400" y="5566680"/>
              <a:chExt cx="421560" cy="323280"/>
            </a:xfrm>
          </p:grpSpPr>
          <p:sp>
            <p:nvSpPr>
              <p:cNvPr id="141" name=""/>
              <p:cNvSpPr/>
              <p:nvPr/>
            </p:nvSpPr>
            <p:spPr>
              <a:xfrm rot="630600">
                <a:off x="2789640" y="562212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630600">
                <a:off x="2566080" y="558072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630600">
                <a:off x="2657520" y="570996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933560" y="5543640"/>
              <a:ext cx="407520" cy="394920"/>
              <a:chOff x="1933560" y="5543640"/>
              <a:chExt cx="407520" cy="394920"/>
            </a:xfrm>
          </p:grpSpPr>
          <p:sp>
            <p:nvSpPr>
              <p:cNvPr id="145" name=""/>
              <p:cNvSpPr/>
              <p:nvPr/>
            </p:nvSpPr>
            <p:spPr>
              <a:xfrm rot="8297400">
                <a:off x="1967040" y="573696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297400">
                <a:off x="2136960" y="558576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297400">
                <a:off x="1978200" y="557892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083240" y="3482280"/>
              <a:ext cx="402840" cy="396000"/>
              <a:chOff x="1083240" y="3482280"/>
              <a:chExt cx="402840" cy="396000"/>
            </a:xfrm>
          </p:grpSpPr>
          <p:sp>
            <p:nvSpPr>
              <p:cNvPr id="149" name=""/>
              <p:cNvSpPr/>
              <p:nvPr/>
            </p:nvSpPr>
            <p:spPr>
              <a:xfrm rot="18992400">
                <a:off x="1281960" y="351792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8992400">
                <a:off x="1116720" y="367416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8992400">
                <a:off x="1275480" y="367632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0480" y="3557520"/>
              <a:ext cx="417960" cy="391320"/>
              <a:chOff x="3210480" y="3557520"/>
              <a:chExt cx="417960" cy="391320"/>
            </a:xfrm>
          </p:grpSpPr>
          <p:sp>
            <p:nvSpPr>
              <p:cNvPr id="153" name=""/>
              <p:cNvSpPr/>
              <p:nvPr/>
            </p:nvSpPr>
            <p:spPr>
              <a:xfrm rot="8589600">
                <a:off x="3242880" y="374868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8589600">
                <a:off x="3425040" y="361224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8589600">
                <a:off x="3267720" y="359208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408040" y="5324400"/>
              <a:ext cx="182520" cy="17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3804840"/>
              <a:ext cx="180720" cy="17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18960" y="3633480"/>
              <a:ext cx="18108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6880" y="4392360"/>
              <a:ext cx="182520" cy="17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20440" y="5221080"/>
              <a:ext cx="18108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58600" y="3857400"/>
              <a:ext cx="1737000" cy="1069920"/>
            </a:xfrm>
            <a:custGeom>
              <a:avLst/>
              <a:gdLst/>
              <a:ahLst/>
              <a:rect l="l" t="t" r="r" b="b"/>
              <a:pathLst>
                <a:path w="2301" h="1488">
                  <a:moveTo>
                    <a:pt x="93" y="348"/>
                  </a:moveTo>
                  <a:cubicBezTo>
                    <a:pt x="0" y="325"/>
                    <a:pt x="15" y="302"/>
                    <a:pt x="33" y="204"/>
                  </a:cubicBezTo>
                  <a:cubicBezTo>
                    <a:pt x="35" y="192"/>
                    <a:pt x="36" y="177"/>
                    <a:pt x="45" y="168"/>
                  </a:cubicBezTo>
                  <a:cubicBezTo>
                    <a:pt x="65" y="148"/>
                    <a:pt x="93" y="136"/>
                    <a:pt x="117" y="120"/>
                  </a:cubicBezTo>
                  <a:cubicBezTo>
                    <a:pt x="176" y="81"/>
                    <a:pt x="237" y="64"/>
                    <a:pt x="297" y="24"/>
                  </a:cubicBezTo>
                  <a:cubicBezTo>
                    <a:pt x="317" y="11"/>
                    <a:pt x="345" y="14"/>
                    <a:pt x="369" y="12"/>
                  </a:cubicBezTo>
                  <a:cubicBezTo>
                    <a:pt x="449" y="6"/>
                    <a:pt x="529" y="4"/>
                    <a:pt x="609" y="0"/>
                  </a:cubicBezTo>
                  <a:cubicBezTo>
                    <a:pt x="766" y="17"/>
                    <a:pt x="917" y="71"/>
                    <a:pt x="1077" y="84"/>
                  </a:cubicBezTo>
                  <a:cubicBezTo>
                    <a:pt x="1125" y="88"/>
                    <a:pt x="1173" y="90"/>
                    <a:pt x="1221" y="96"/>
                  </a:cubicBezTo>
                  <a:cubicBezTo>
                    <a:pt x="1269" y="102"/>
                    <a:pt x="1365" y="120"/>
                    <a:pt x="1365" y="120"/>
                  </a:cubicBezTo>
                  <a:cubicBezTo>
                    <a:pt x="1462" y="185"/>
                    <a:pt x="1333" y="104"/>
                    <a:pt x="1449" y="156"/>
                  </a:cubicBezTo>
                  <a:cubicBezTo>
                    <a:pt x="1470" y="165"/>
                    <a:pt x="1488" y="182"/>
                    <a:pt x="1509" y="192"/>
                  </a:cubicBezTo>
                  <a:cubicBezTo>
                    <a:pt x="1528" y="202"/>
                    <a:pt x="1549" y="208"/>
                    <a:pt x="1569" y="216"/>
                  </a:cubicBezTo>
                  <a:cubicBezTo>
                    <a:pt x="1633" y="280"/>
                    <a:pt x="1663" y="279"/>
                    <a:pt x="1749" y="300"/>
                  </a:cubicBezTo>
                  <a:cubicBezTo>
                    <a:pt x="1781" y="320"/>
                    <a:pt x="1813" y="340"/>
                    <a:pt x="1845" y="360"/>
                  </a:cubicBezTo>
                  <a:cubicBezTo>
                    <a:pt x="1863" y="371"/>
                    <a:pt x="1855" y="403"/>
                    <a:pt x="1869" y="420"/>
                  </a:cubicBezTo>
                  <a:cubicBezTo>
                    <a:pt x="1877" y="430"/>
                    <a:pt x="1893" y="428"/>
                    <a:pt x="1905" y="432"/>
                  </a:cubicBezTo>
                  <a:cubicBezTo>
                    <a:pt x="1971" y="482"/>
                    <a:pt x="1981" y="522"/>
                    <a:pt x="2025" y="588"/>
                  </a:cubicBezTo>
                  <a:cubicBezTo>
                    <a:pt x="2057" y="715"/>
                    <a:pt x="2014" y="565"/>
                    <a:pt x="2061" y="672"/>
                  </a:cubicBezTo>
                  <a:cubicBezTo>
                    <a:pt x="2085" y="727"/>
                    <a:pt x="2089" y="768"/>
                    <a:pt x="2121" y="816"/>
                  </a:cubicBezTo>
                  <a:cubicBezTo>
                    <a:pt x="2140" y="891"/>
                    <a:pt x="2181" y="949"/>
                    <a:pt x="2205" y="1020"/>
                  </a:cubicBezTo>
                  <a:cubicBezTo>
                    <a:pt x="2188" y="1090"/>
                    <a:pt x="2195" y="1089"/>
                    <a:pt x="2253" y="1128"/>
                  </a:cubicBezTo>
                  <a:cubicBezTo>
                    <a:pt x="2268" y="1190"/>
                    <a:pt x="2301" y="1332"/>
                    <a:pt x="2253" y="1380"/>
                  </a:cubicBezTo>
                  <a:cubicBezTo>
                    <a:pt x="2237" y="1396"/>
                    <a:pt x="2213" y="1404"/>
                    <a:pt x="2193" y="1416"/>
                  </a:cubicBezTo>
                  <a:cubicBezTo>
                    <a:pt x="2165" y="1458"/>
                    <a:pt x="2145" y="1472"/>
                    <a:pt x="2097" y="1488"/>
                  </a:cubicBezTo>
                  <a:cubicBezTo>
                    <a:pt x="2003" y="1481"/>
                    <a:pt x="1922" y="1477"/>
                    <a:pt x="1833" y="1452"/>
                  </a:cubicBezTo>
                  <a:cubicBezTo>
                    <a:pt x="1789" y="1439"/>
                    <a:pt x="1701" y="1416"/>
                    <a:pt x="1701" y="1416"/>
                  </a:cubicBezTo>
                  <a:cubicBezTo>
                    <a:pt x="1608" y="1354"/>
                    <a:pt x="1544" y="1258"/>
                    <a:pt x="1485" y="1164"/>
                  </a:cubicBezTo>
                  <a:cubicBezTo>
                    <a:pt x="1457" y="1120"/>
                    <a:pt x="1454" y="1075"/>
                    <a:pt x="1425" y="1032"/>
                  </a:cubicBezTo>
                  <a:cubicBezTo>
                    <a:pt x="1421" y="1016"/>
                    <a:pt x="1419" y="999"/>
                    <a:pt x="1413" y="984"/>
                  </a:cubicBezTo>
                  <a:cubicBezTo>
                    <a:pt x="1407" y="971"/>
                    <a:pt x="1394" y="962"/>
                    <a:pt x="1389" y="948"/>
                  </a:cubicBezTo>
                  <a:cubicBezTo>
                    <a:pt x="1373" y="905"/>
                    <a:pt x="1375" y="856"/>
                    <a:pt x="1353" y="816"/>
                  </a:cubicBezTo>
                  <a:cubicBezTo>
                    <a:pt x="1325" y="765"/>
                    <a:pt x="1292" y="724"/>
                    <a:pt x="1269" y="672"/>
                  </a:cubicBezTo>
                  <a:cubicBezTo>
                    <a:pt x="1247" y="622"/>
                    <a:pt x="1237" y="568"/>
                    <a:pt x="1221" y="516"/>
                  </a:cubicBezTo>
                  <a:cubicBezTo>
                    <a:pt x="1207" y="468"/>
                    <a:pt x="1185" y="421"/>
                    <a:pt x="1173" y="372"/>
                  </a:cubicBezTo>
                  <a:cubicBezTo>
                    <a:pt x="1172" y="369"/>
                    <a:pt x="1155" y="296"/>
                    <a:pt x="1149" y="288"/>
                  </a:cubicBezTo>
                  <a:cubicBezTo>
                    <a:pt x="1140" y="277"/>
                    <a:pt x="1125" y="272"/>
                    <a:pt x="1113" y="264"/>
                  </a:cubicBezTo>
                  <a:cubicBezTo>
                    <a:pt x="1089" y="268"/>
                    <a:pt x="1053" y="255"/>
                    <a:pt x="1041" y="276"/>
                  </a:cubicBezTo>
                  <a:cubicBezTo>
                    <a:pt x="1028" y="298"/>
                    <a:pt x="1057" y="324"/>
                    <a:pt x="1065" y="348"/>
                  </a:cubicBezTo>
                  <a:cubicBezTo>
                    <a:pt x="1070" y="364"/>
                    <a:pt x="1073" y="380"/>
                    <a:pt x="1077" y="396"/>
                  </a:cubicBezTo>
                  <a:cubicBezTo>
                    <a:pt x="1069" y="408"/>
                    <a:pt x="1067" y="429"/>
                    <a:pt x="1053" y="432"/>
                  </a:cubicBezTo>
                  <a:cubicBezTo>
                    <a:pt x="1017" y="438"/>
                    <a:pt x="981" y="424"/>
                    <a:pt x="945" y="420"/>
                  </a:cubicBezTo>
                  <a:cubicBezTo>
                    <a:pt x="880" y="412"/>
                    <a:pt x="826" y="404"/>
                    <a:pt x="765" y="384"/>
                  </a:cubicBezTo>
                  <a:cubicBezTo>
                    <a:pt x="539" y="393"/>
                    <a:pt x="519" y="392"/>
                    <a:pt x="357" y="432"/>
                  </a:cubicBezTo>
                  <a:cubicBezTo>
                    <a:pt x="327" y="430"/>
                    <a:pt x="217" y="434"/>
                    <a:pt x="165" y="408"/>
                  </a:cubicBezTo>
                  <a:cubicBezTo>
                    <a:pt x="152" y="402"/>
                    <a:pt x="142" y="390"/>
                    <a:pt x="129" y="384"/>
                  </a:cubicBezTo>
                  <a:cubicBezTo>
                    <a:pt x="57" y="352"/>
                    <a:pt x="27" y="370"/>
                    <a:pt x="93" y="348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23880" y="4419360"/>
              <a:ext cx="1303200" cy="6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ty spa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600" y="3442680"/>
            <a:ext cx="4343400" cy="3079800"/>
            <a:chOff x="4800600" y="3442680"/>
            <a:chExt cx="4343400" cy="3079800"/>
          </a:xfrm>
        </p:grpSpPr>
        <p:grpSp>
          <p:nvGrpSpPr>
            <p:cNvPr id="164" name=""/>
            <p:cNvGrpSpPr/>
            <p:nvPr/>
          </p:nvGrpSpPr>
          <p:grpSpPr>
            <a:xfrm>
              <a:off x="5704920" y="3787560"/>
              <a:ext cx="2389320" cy="2152440"/>
              <a:chOff x="5704920" y="3787560"/>
              <a:chExt cx="2389320" cy="2152440"/>
            </a:xfrm>
          </p:grpSpPr>
          <p:sp>
            <p:nvSpPr>
              <p:cNvPr id="165" name=""/>
              <p:cNvSpPr/>
              <p:nvPr/>
            </p:nvSpPr>
            <p:spPr>
              <a:xfrm>
                <a:off x="6537960" y="3858120"/>
                <a:ext cx="0" cy="493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61560" y="3893400"/>
                <a:ext cx="0" cy="493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5704920" y="4352040"/>
                <a:ext cx="832680" cy="158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61560" y="4387320"/>
                <a:ext cx="832320" cy="1552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05280" y="5940000"/>
                <a:ext cx="2388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37960" y="3787560"/>
                <a:ext cx="723600" cy="1764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7696080" y="4069800"/>
              <a:ext cx="18108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026760" y="5492880"/>
              <a:ext cx="388440" cy="422640"/>
              <a:chOff x="6026760" y="5492880"/>
              <a:chExt cx="388440" cy="422640"/>
            </a:xfrm>
          </p:grpSpPr>
          <p:sp>
            <p:nvSpPr>
              <p:cNvPr id="173" name=""/>
              <p:cNvSpPr/>
              <p:nvPr/>
            </p:nvSpPr>
            <p:spPr>
              <a:xfrm rot="14421600">
                <a:off x="6059880" y="5521320"/>
                <a:ext cx="166320" cy="17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4421600">
                <a:off x="6169320" y="5713560"/>
                <a:ext cx="166320" cy="17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4421600">
                <a:off x="6215400" y="5560200"/>
                <a:ext cx="166320" cy="17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259760" y="5518080"/>
              <a:ext cx="421920" cy="329400"/>
              <a:chOff x="7259760" y="5518080"/>
              <a:chExt cx="421920" cy="329400"/>
            </a:xfrm>
          </p:grpSpPr>
          <p:sp>
            <p:nvSpPr>
              <p:cNvPr id="177" name=""/>
              <p:cNvSpPr/>
              <p:nvPr/>
            </p:nvSpPr>
            <p:spPr>
              <a:xfrm rot="630600">
                <a:off x="7497000" y="557352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30600">
                <a:off x="7273800" y="553212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30600">
                <a:off x="7364520" y="5663880"/>
                <a:ext cx="17064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642360" y="5495400"/>
              <a:ext cx="409680" cy="399960"/>
              <a:chOff x="6642360" y="5495400"/>
              <a:chExt cx="409680" cy="399960"/>
            </a:xfrm>
          </p:grpSpPr>
          <p:sp>
            <p:nvSpPr>
              <p:cNvPr id="181" name=""/>
              <p:cNvSpPr/>
              <p:nvPr/>
            </p:nvSpPr>
            <p:spPr>
              <a:xfrm rot="8297400">
                <a:off x="6676920" y="569088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8297400">
                <a:off x="6846480" y="553968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8297400">
                <a:off x="6686640" y="5530680"/>
                <a:ext cx="17064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169680" y="3442680"/>
              <a:ext cx="405000" cy="399960"/>
              <a:chOff x="6169680" y="3442680"/>
              <a:chExt cx="405000" cy="399960"/>
            </a:xfrm>
          </p:grpSpPr>
          <p:sp>
            <p:nvSpPr>
              <p:cNvPr id="185" name=""/>
              <p:cNvSpPr/>
              <p:nvPr/>
            </p:nvSpPr>
            <p:spPr>
              <a:xfrm rot="18992400">
                <a:off x="6369120" y="347760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992400">
                <a:off x="6204240" y="363384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992400">
                <a:off x="6364080" y="3637800"/>
                <a:ext cx="17028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248600" y="3482280"/>
              <a:ext cx="419400" cy="396360"/>
              <a:chOff x="7248600" y="3482280"/>
              <a:chExt cx="419400" cy="396360"/>
            </a:xfrm>
          </p:grpSpPr>
          <p:sp>
            <p:nvSpPr>
              <p:cNvPr id="189" name=""/>
              <p:cNvSpPr/>
              <p:nvPr/>
            </p:nvSpPr>
            <p:spPr>
              <a:xfrm rot="8589600">
                <a:off x="7282080" y="367488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8589600">
                <a:off x="7463880" y="353880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89600">
                <a:off x="7305120" y="3516120"/>
                <a:ext cx="17028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7406640" y="534024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67080" y="4034520"/>
              <a:ext cx="18108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27400" y="3928680"/>
              <a:ext cx="18108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44480" y="4740480"/>
              <a:ext cx="18108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29240" y="516384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92880" y="3858120"/>
              <a:ext cx="941040" cy="1340640"/>
            </a:xfrm>
            <a:custGeom>
              <a:avLst/>
              <a:gdLst/>
              <a:ahLst/>
              <a:rect l="l" t="t" r="r" b="b"/>
              <a:pathLst>
                <a:path w="1162" h="1775">
                  <a:moveTo>
                    <a:pt x="149" y="35"/>
                  </a:moveTo>
                  <a:cubicBezTo>
                    <a:pt x="202" y="247"/>
                    <a:pt x="142" y="0"/>
                    <a:pt x="161" y="635"/>
                  </a:cubicBezTo>
                  <a:cubicBezTo>
                    <a:pt x="161" y="648"/>
                    <a:pt x="173" y="671"/>
                    <a:pt x="173" y="671"/>
                  </a:cubicBezTo>
                  <a:cubicBezTo>
                    <a:pt x="145" y="713"/>
                    <a:pt x="127" y="777"/>
                    <a:pt x="113" y="827"/>
                  </a:cubicBezTo>
                  <a:cubicBezTo>
                    <a:pt x="109" y="842"/>
                    <a:pt x="102" y="876"/>
                    <a:pt x="95" y="887"/>
                  </a:cubicBezTo>
                  <a:cubicBezTo>
                    <a:pt x="71" y="923"/>
                    <a:pt x="53" y="959"/>
                    <a:pt x="41" y="1001"/>
                  </a:cubicBezTo>
                  <a:cubicBezTo>
                    <a:pt x="28" y="1047"/>
                    <a:pt x="26" y="1092"/>
                    <a:pt x="17" y="1139"/>
                  </a:cubicBezTo>
                  <a:cubicBezTo>
                    <a:pt x="14" y="1155"/>
                    <a:pt x="5" y="1187"/>
                    <a:pt x="5" y="1187"/>
                  </a:cubicBezTo>
                  <a:cubicBezTo>
                    <a:pt x="9" y="1267"/>
                    <a:pt x="0" y="1359"/>
                    <a:pt x="11" y="1439"/>
                  </a:cubicBezTo>
                  <a:cubicBezTo>
                    <a:pt x="15" y="1467"/>
                    <a:pt x="38" y="1501"/>
                    <a:pt x="53" y="1523"/>
                  </a:cubicBezTo>
                  <a:cubicBezTo>
                    <a:pt x="65" y="1541"/>
                    <a:pt x="72" y="1580"/>
                    <a:pt x="89" y="1595"/>
                  </a:cubicBezTo>
                  <a:cubicBezTo>
                    <a:pt x="104" y="1608"/>
                    <a:pt x="155" y="1631"/>
                    <a:pt x="179" y="1637"/>
                  </a:cubicBezTo>
                  <a:cubicBezTo>
                    <a:pt x="188" y="1664"/>
                    <a:pt x="206" y="1662"/>
                    <a:pt x="227" y="1679"/>
                  </a:cubicBezTo>
                  <a:cubicBezTo>
                    <a:pt x="308" y="1746"/>
                    <a:pt x="427" y="1753"/>
                    <a:pt x="527" y="1775"/>
                  </a:cubicBezTo>
                  <a:cubicBezTo>
                    <a:pt x="589" y="1773"/>
                    <a:pt x="651" y="1773"/>
                    <a:pt x="713" y="1769"/>
                  </a:cubicBezTo>
                  <a:cubicBezTo>
                    <a:pt x="759" y="1766"/>
                    <a:pt x="805" y="1746"/>
                    <a:pt x="851" y="1739"/>
                  </a:cubicBezTo>
                  <a:cubicBezTo>
                    <a:pt x="859" y="1735"/>
                    <a:pt x="867" y="1730"/>
                    <a:pt x="875" y="1727"/>
                  </a:cubicBezTo>
                  <a:cubicBezTo>
                    <a:pt x="891" y="1722"/>
                    <a:pt x="923" y="1715"/>
                    <a:pt x="923" y="1715"/>
                  </a:cubicBezTo>
                  <a:cubicBezTo>
                    <a:pt x="954" y="1694"/>
                    <a:pt x="978" y="1681"/>
                    <a:pt x="1013" y="1667"/>
                  </a:cubicBezTo>
                  <a:cubicBezTo>
                    <a:pt x="1032" y="1639"/>
                    <a:pt x="1044" y="1629"/>
                    <a:pt x="1055" y="1595"/>
                  </a:cubicBezTo>
                  <a:cubicBezTo>
                    <a:pt x="1060" y="1581"/>
                    <a:pt x="1079" y="1579"/>
                    <a:pt x="1091" y="1571"/>
                  </a:cubicBezTo>
                  <a:cubicBezTo>
                    <a:pt x="1098" y="1566"/>
                    <a:pt x="1103" y="1559"/>
                    <a:pt x="1109" y="1553"/>
                  </a:cubicBezTo>
                  <a:cubicBezTo>
                    <a:pt x="1129" y="1494"/>
                    <a:pt x="1131" y="1432"/>
                    <a:pt x="1151" y="1373"/>
                  </a:cubicBezTo>
                  <a:cubicBezTo>
                    <a:pt x="1156" y="1309"/>
                    <a:pt x="1162" y="1293"/>
                    <a:pt x="1151" y="1229"/>
                  </a:cubicBezTo>
                  <a:cubicBezTo>
                    <a:pt x="1146" y="1199"/>
                    <a:pt x="1132" y="1170"/>
                    <a:pt x="1127" y="1139"/>
                  </a:cubicBezTo>
                  <a:cubicBezTo>
                    <a:pt x="1123" y="1034"/>
                    <a:pt x="1119" y="983"/>
                    <a:pt x="1097" y="893"/>
                  </a:cubicBezTo>
                  <a:cubicBezTo>
                    <a:pt x="1093" y="808"/>
                    <a:pt x="1082" y="719"/>
                    <a:pt x="1103" y="635"/>
                  </a:cubicBezTo>
                  <a:cubicBezTo>
                    <a:pt x="1091" y="448"/>
                    <a:pt x="1084" y="266"/>
                    <a:pt x="1097" y="77"/>
                  </a:cubicBezTo>
                  <a:cubicBezTo>
                    <a:pt x="1095" y="57"/>
                    <a:pt x="1097" y="36"/>
                    <a:pt x="1091" y="17"/>
                  </a:cubicBezTo>
                  <a:cubicBezTo>
                    <a:pt x="1089" y="11"/>
                    <a:pt x="1088" y="29"/>
                    <a:pt x="1085" y="35"/>
                  </a:cubicBezTo>
                  <a:cubicBezTo>
                    <a:pt x="1078" y="50"/>
                    <a:pt x="1070" y="58"/>
                    <a:pt x="1055" y="65"/>
                  </a:cubicBezTo>
                  <a:cubicBezTo>
                    <a:pt x="999" y="90"/>
                    <a:pt x="904" y="124"/>
                    <a:pt x="845" y="131"/>
                  </a:cubicBezTo>
                  <a:cubicBezTo>
                    <a:pt x="765" y="158"/>
                    <a:pt x="679" y="134"/>
                    <a:pt x="599" y="161"/>
                  </a:cubicBezTo>
                  <a:cubicBezTo>
                    <a:pt x="490" y="149"/>
                    <a:pt x="375" y="149"/>
                    <a:pt x="269" y="119"/>
                  </a:cubicBezTo>
                  <a:cubicBezTo>
                    <a:pt x="263" y="117"/>
                    <a:pt x="257" y="116"/>
                    <a:pt x="251" y="113"/>
                  </a:cubicBezTo>
                  <a:cubicBezTo>
                    <a:pt x="245" y="110"/>
                    <a:pt x="240" y="103"/>
                    <a:pt x="233" y="101"/>
                  </a:cubicBezTo>
                  <a:cubicBezTo>
                    <a:pt x="202" y="91"/>
                    <a:pt x="188" y="95"/>
                    <a:pt x="161" y="77"/>
                  </a:cubicBezTo>
                  <a:cubicBezTo>
                    <a:pt x="152" y="51"/>
                    <a:pt x="157" y="65"/>
                    <a:pt x="149" y="35"/>
                  </a:cubicBezTo>
                  <a:close/>
                </a:path>
              </a:pathLst>
            </a:custGeom>
            <a:solidFill>
              <a:srgbClr val="ffff00">
                <a:alpha val="4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96080" y="4563720"/>
              <a:ext cx="18108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58240" y="3505320"/>
              <a:ext cx="18072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46320" y="442296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99760" y="354060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41640" y="4705200"/>
              <a:ext cx="18108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1840" y="357588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0600" y="5941800"/>
              <a:ext cx="434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 air pushes the balloon into the empty spaces between the cooling molecu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4:14:56Z</dcterms:created>
  <dc:creator>ccps5500</dc:creator>
  <dc:description/>
  <dc:language>en-US</dc:language>
  <cp:lastModifiedBy>ccps5500</cp:lastModifiedBy>
  <dcterms:modified xsi:type="dcterms:W3CDTF">2011-11-03T14:15:05Z</dcterms:modified>
  <cp:revision>1</cp:revision>
  <dc:subject/>
  <dc:title>Slide 1</dc:title>
</cp:coreProperties>
</file>